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B9641-FA25-4335-9D76-41DBDF467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0DC5-33CF-4698-95FE-935A1592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6C16E-5101-489F-9045-66EE88F9D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49CBD-E4C7-4EB6-A0D4-D29ACAD35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C1494-C885-4B8B-8E07-B8DDC71CC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40ADE-A50C-4760-917B-0F2363CCE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6379F-623F-4F07-915D-A55B2F7AF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6BE9E-7C2D-489F-A43C-2510A4E02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C6360-D70E-4B80-9BCA-6D2DD2887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4C988-7F87-4138-B723-B31F248B0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FE10A-641C-440E-9D37-D4B2E6BAA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9538-820E-4DD6-A390-9DE2A4F0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49B5E-9ED7-46D3-A4D8-8C2D98FDD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2DD56-6B5A-4C3F-9887-5FC8306D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E24B7-0E07-4259-A591-0FEFBBCF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C6619-4AB1-4DA3-84BB-EBBC3F8AB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F93DE-A77D-4E23-A91B-B139D47BA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F2D15-A892-4F48-96F0-AD166005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F8B7E-6F89-47C1-A314-2B0FDFC83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A936-107D-4A83-A693-808D887D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55A7-B345-4F8A-AA23-8D805074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875B-924F-49CD-A9C1-65814919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BCEA-80F7-4B52-A816-EBEDF748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5CC1-D645-442F-8E4E-17D1CCEF4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0BB0-9A7E-45F4-A5D1-F6B24A1ED321}"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1471-1BB4-4AF5-81D2-3BEC3C7BBD9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7"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16FF-6B23-4890-A096-B8DCEE5D690B}"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8D0C-680B-4F9E-9A77-371A303B540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ppt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grayscl/>
          </a:blip>
          <a:stretch/>
        </p:blipFill>
        <p:spPr>
          <a:xfrm>
            <a:off x="684360" y="2060640"/>
            <a:ext cx="4025880" cy="4537080"/>
          </a:xfrm>
          <a:prstGeom prst="rect">
            <a:avLst/>
          </a:prstGeom>
          <a:ln w="0">
            <a:noFill/>
          </a:ln>
        </p:spPr>
      </p:pic>
      <p:sp>
        <p:nvSpPr>
          <p:cNvPr id="89" name=""/>
          <p:cNvSpPr/>
          <p:nvPr/>
        </p:nvSpPr>
        <p:spPr>
          <a:xfrm>
            <a:off x="324000" y="475920"/>
            <a:ext cx="8820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ТАБАКОКУРЕНИЕ – ПРОБЛЕМА XXI ВЕКА»</a:t>
            </a:r>
            <a:r>
              <a:rPr b="1" lang="ru-RU"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90" name=""/>
          <p:cNvSpPr/>
          <p:nvPr/>
        </p:nvSpPr>
        <p:spPr>
          <a:xfrm>
            <a:off x="4932360" y="3184560"/>
            <a:ext cx="3672000" cy="22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ИНИСТЕРСТВО ОБОРОНЫ РФ</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ЛАВНОЕ ВОЕННО-МЕДИЦИНСКОЕ УПРАВЛЕНИЕ МО РФ</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ОСУДАРСТВЕННЫЙ</a:t>
            </a:r>
            <a:r>
              <a:rPr b="1" lang="ru-RU" sz="3600" spc="-1" strike="noStrike">
                <a:solidFill>
                  <a:srgbClr val="ffffff"/>
                </a:solidFill>
                <a:latin typeface="Times New Roman"/>
              </a:rPr>
              <a:t> </a:t>
            </a:r>
            <a:r>
              <a:rPr b="1" lang="ru-RU" sz="1200" spc="-1" strike="noStrike">
                <a:solidFill>
                  <a:srgbClr val="ffffff"/>
                </a:solidFill>
                <a:latin typeface="Times New Roman"/>
              </a:rPr>
              <a:t>ИНСТИТУТ УСОВЕРШЕНСТВОВАНИЯ ВРАЧЕЙ МО РФ</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ЛАВНЫЙ ВОЕННЫЙ КЛИНИЧЕСКИЙ</a:t>
            </a:r>
            <a:r>
              <a:rPr b="1" lang="ru-RU" sz="3600" spc="-1" strike="noStrike">
                <a:solidFill>
                  <a:srgbClr val="ffffff"/>
                </a:solidFill>
                <a:latin typeface="Times New Roman"/>
              </a:rPr>
              <a:t> </a:t>
            </a:r>
            <a:r>
              <a:rPr b="1" lang="ru-RU" sz="1200" spc="-1" strike="noStrike">
                <a:solidFill>
                  <a:srgbClr val="ffffff"/>
                </a:solidFill>
                <a:latin typeface="Times New Roman"/>
              </a:rPr>
              <a:t>ГОСПИТАЛЬ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м. академика Н.Н. БУРДЕНКО</a:t>
            </a: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9FD88669-AAD7-4D90-AF43-888B5BDF5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3" name=""/>
          <p:cNvGraphicFramePr/>
          <p:nvPr/>
        </p:nvGraphicFramePr>
        <p:xfrm>
          <a:off x="0" y="-74520"/>
          <a:ext cx="9144000" cy="6932520"/>
        </p:xfrm>
        <a:graphic>
          <a:graphicData uri="http://schemas.openxmlformats.org/presentationml/2006/ole">
            <p:oleObj progId="PowerPoint.Show.12" r:id="rId2" spid="">
              <p:embed/>
              <p:pic>
                <p:nvPicPr>
                  <p:cNvPr id="104" name="" descr=""/>
                  <p:cNvPicPr/>
                  <p:nvPr/>
                </p:nvPicPr>
                <p:blipFill>
                  <a:blip r:embed="rId3"/>
                  <a:stretch/>
                </p:blipFill>
                <p:spPr>
                  <a:xfrm>
                    <a:off x="0" y="-74520"/>
                    <a:ext cx="9144000" cy="6932520"/>
                  </a:xfrm>
                  <a:prstGeom prst="rect">
                    <a:avLst/>
                  </a:prstGeom>
                  <a:ln w="0">
                    <a:noFill/>
                  </a:ln>
                </p:spPr>
              </p:pic>
            </p:oleObj>
          </a:graphicData>
        </a:graphic>
      </p:graphicFrame>
      <p:sp>
        <p:nvSpPr>
          <p:cNvPr id="2" name="PlaceHolder 1"/>
          <p:cNvSpPr>
            <a:spLocks noGrp="1"/>
          </p:cNvSpPr>
          <p:nvPr>
            <p:ph type="sldNum" idx="3"/>
          </p:nvPr>
        </p:nvSpPr>
        <p:spPr/>
        <p:txBody>
          <a:bodyPr/>
          <a:p>
            <a:fld id="{B286217A-0DC3-486C-928D-B499E79EB1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0"/>
            <a:ext cx="9144000" cy="722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Химия табачного дым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арадокс химического состава сигарет состоит в том, что люди фактически потребляют не те вещества, которые содержатся в самом изделии, а те, которые образуются в результате его сгорания. Поэтому наибольший интерес представляет химический состав н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только самих табачных изделий, сколько их производных – табачного дым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 настоящему времени в табачных изделиях обнаружено около 4000 химических соединений, а в табачном дыме – около 5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ногие из них являются фармакологически активными, токсичными, мутагенными и канцерогенными</a:t>
            </a:r>
            <a:r>
              <a:rPr b="0" lang="ru-RU" sz="3600" spc="-1" strike="noStrike">
                <a:solidFill>
                  <a:srgbClr val="ffffff"/>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которые из этих веществ имеют явно выраженные раздражающие свойства, а около 60 из них являются известными ил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полагаемыми канцерогенами. Основным для табачных изделий веществом, из-за которого их употребляют, является никотин.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963B71-2FCD-4DFC-9836-7356DAA08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95280" y="0"/>
            <a:ext cx="8353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икотин</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Является естественным компонентом табачных растений. В больших количествах он весьма токсичен. Никотин является естественной защитой табачного растения от поедания насекомыми. В равных количествах он более ядовит, чем стрихнин, и обладает в три раза большей токсичностью, чем мышьяк.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лучайным образом это естественное средство борьбы с насекомыми оказалось весьма близким по химической структуре ацетилхолину, веществу, которое регулирует передачу нервных импульсов в человеческом мозге. Поэтому, когда никотин попадает в мозг, он открывает «химические замки», которые предоставляют доступ к воздействию на разнообразные процессы нервной системы человека.</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EC26E1-A9B2-4B60-A0A2-17CD1A0DD6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50920" y="907920"/>
            <a:ext cx="8569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мола</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общее название для сложной смеси токсичных веществ, которые вдыхает курильщик в виде частичек.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 определению, смола – это все то, что содержится в табачном дыме, за исключением газов, никотина и воды. Каждая частичка состоит из многих органических и неорганических веществ, среди которых присутствует множество летучих 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лу-летучих соединений.</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A183FFB-F94B-455A-9F8B-EE0BBC4CB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0"/>
            <a:ext cx="896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анцероген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анцерогены табачного дыма имеют разную химическую природу. Кроме перечисленных выше полициклических ароматических углеводородов и нитрозаминов, табачный дым</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держит другие органические и неорганические соединения, которые могут обладать канцерогенным действием.</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еждународное агентство исследований рака (IARC) относит к «Канцерогенам человека первой группы» 44 отдельных вещества, 12 групп или смесей химических веществ и 13</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словий, способствующих воздействию. Девять из этих 44 веществ присутствуют в основном потоке табачного дыма. Это бензол, кадмий, мышьяк, никель, хром, 2-нафтиламин, винил хлорид, 4-аминобифенил, бериллий.</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оме собственно канцерогенов, табачный дым также содержит так называемые ко-канцерогены, то есть вещества, которые способствуют реализации действия канцерогенов. К ним относится, например, катехол.</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9C3E39-909D-48B8-A6B6-B45064DA3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250920" y="0"/>
            <a:ext cx="889308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лициклические ароматические углеводород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большой класс органических канцерогенов, в значительном количестве присутствующих в табачном дыме и представляющих собой именно то, что традиционно понималось под «смоло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новным механизмом их канцерогенного действия является образование соединений с молекулами ДНК.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ществует представление о многоэтапности процесса канцерогенеза с участием полициклических ароматических углеводородов, в ходе которого сначала происходит инициализация процесса канцерогенеза, а затем инициализированные клетки превращаются в злокачественные. В этом процессе участвуют как канцерогены, так и ко-канцерогены.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дним из наиболее известных представителей данного класса является бензпирен, который был выделен из каменноугольной смолы в 19303е годы, и с тех пор рассматривается в качестве классического примера канцерогенов.</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BC83EF-5B82-4140-B883-CB6A4A4AC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33336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итрозамин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бачные N-нитрозамины – это группа канцерогенов, образующихся из алкалоидов табака. Они являются этиологическим фактором злокачественных опухолей легких, пищевода, поджелудочной железы, ротовой полости у людей, потребляющих табак. При взаимодействии с нитрозаминами молекулы ДНК изменяют свою структуру, что служит началом для злокачественного роста.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временные сигареты, несмотря на кажущееся снижение содержания смол, обусловливают большее поступление в организм курильщика нитрозаминов. И со снижением поступления в организм курильщика полициклических ароматических углеводородов и увеличением поступления нитрозаминов связано изменение структуры заболеваемости раком легких, со снижением частоты плоскоклеточного рака и ростом числа случаев аденокарциномы</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9EB6D9-78EA-487A-90F8-7F26A6CC79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0" y="0"/>
            <a:ext cx="88930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еталл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табачном дыме в следовых количествах обнаруживают </a:t>
            </a:r>
            <a:r>
              <a:rPr b="1" lang="ru-RU" sz="2400" spc="-1" strike="noStrike">
                <a:solidFill>
                  <a:srgbClr val="ffffff"/>
                </a:solidFill>
                <a:latin typeface="Times New Roman"/>
              </a:rPr>
              <a:t>76 металлов</a:t>
            </a:r>
            <a:r>
              <a:rPr b="0" lang="ru-RU" sz="2400" spc="-1" strike="noStrike">
                <a:solidFill>
                  <a:srgbClr val="ffffff"/>
                </a:solidFill>
                <a:latin typeface="Times New Roman"/>
              </a:rPr>
              <a:t>, включая никель, кадмий, мышьяк, хром и свинец. Известно, что мышьяк, хром и их соединения достоверн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ызывают развитие рака у людей. Есть данные, позволяющие предположить, что соединения никеля и кадмия также являютс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анцерогенами. Содержание металлов в табачном лист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ределяется условиями возделывания табака, составом удобрений, а также погодными условиями. Например, замечено, что дожди увеличивают содержание металлов в листья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б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ром шестивалентный хром давно известен в качестве канцерогена, а трехвалентный хром является эссенциальным нутриентом, то есть незаменимым компонентом пищи. При этом 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рганизме существуют пути дезинтоксикации, которые позволяют восстановить шестивалентный хром до трехвалентного. С ингаляционным воздействием хрома связывают развитие астмы.</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5E3E09-9052-4492-A869-78496455E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0" y="0"/>
            <a:ext cx="88930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еталлы (продолжени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икель</a:t>
            </a:r>
            <a:r>
              <a:rPr b="0" lang="ru-RU" sz="2400" spc="-1" strike="noStrike">
                <a:solidFill>
                  <a:srgbClr val="ffffff"/>
                </a:solidFill>
                <a:latin typeface="Times New Roman"/>
              </a:rPr>
              <a:t> относится к группе веществ, провоцирующих развитие астмы, а также способствует развитию рака. Вдыхание частиц никеля приводит к развитию бронхиолита, то есть воспаления самых мелких бронхо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адмий</a:t>
            </a:r>
            <a:r>
              <a:rPr b="0" lang="ru-RU" sz="2400" spc="-1" strike="noStrike">
                <a:solidFill>
                  <a:srgbClr val="ffffff"/>
                </a:solidFill>
                <a:latin typeface="Times New Roman"/>
              </a:rPr>
              <a:t> является тяжелым металлом, в отношении которого полезное физиологическое действие не известно. Наиболее частым источником кадмия является курение, хотя возможно также поступление его с пищей. Последствия воздействия кадм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казываются наиболее выраженными у тех людей, у которых имеется дефицит цинка и кальция в пище. Кадмий накапливается в организме в силу его реабсорбции в почках и отсутств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иологических процессов, способствующих его выведению из организма. Он обладает токсическим действием на почки 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особствует снижению минеральной плотности костной ткани. Кадмий также влияет на синтез прогестерона, либо усилива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го в малых дозах, либо ингибируя в больших.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C6ACB7-85C3-4361-A3B4-E4D9B1A8D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ожно ли оценить влияние курения на здоровь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Пятидесятилетнее исследование британских врач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е было начато Р.Доллом и А.Хиллом в 1951 году, и первые его результаты были опубликованы в 1954 году.</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1951 году в исследовании приняло участие 34439 британских врачей мужского пола, что составило две трети от всех врачей, чьи адреса были известны Британской Медицинской Ассоциации. Среди них было 10118 человек, родившихся до 1900 года, 7477 родившихся в 1900-1909 годах, 9459 родившихся в 1910-191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одах и 7385 родившихся в 1920-30 годах. Только 17% участников исследования (когорты) никогда не курили. В 1951 году курили 77% врачей, участвовавших в исследовании, что было лишь немного ниже, чем средний национальный уровень, составлявший 80% среди взрослых мужчин. В настоящее время в Великобритании наблюдается довольно низкий уровень курения среди развитых стран, около 2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3972B8-4D5F-453E-957F-E883416C0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grayscl/>
          </a:blip>
          <a:stretch/>
        </p:blipFill>
        <p:spPr>
          <a:xfrm>
            <a:off x="6905520" y="189000"/>
            <a:ext cx="1916280" cy="2160360"/>
          </a:xfrm>
          <a:prstGeom prst="rect">
            <a:avLst/>
          </a:prstGeom>
          <a:ln w="0">
            <a:noFill/>
          </a:ln>
        </p:spPr>
      </p:pic>
      <p:sp>
        <p:nvSpPr>
          <p:cNvPr id="92" name=""/>
          <p:cNvSpPr/>
          <p:nvPr/>
        </p:nvSpPr>
        <p:spPr>
          <a:xfrm>
            <a:off x="1835280" y="3891240"/>
            <a:ext cx="7308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 Г. БРЮСО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заведующий кафедрой онкологии ГИУВ МО РФ, доктор медицинских наук, профессор, заслуженный деятель наук, лауреат Государственных премий СССР и РФ, генерал-майор медицинской службы в отставке.</a:t>
            </a:r>
            <a:endParaRPr b="0" lang="en-US" sz="2400" spc="-1" strike="noStrike">
              <a:solidFill>
                <a:srgbClr val="ffffff"/>
              </a:solidFill>
              <a:latin typeface="Times New Roman"/>
            </a:endParaRPr>
          </a:p>
        </p:txBody>
      </p:sp>
      <p:sp>
        <p:nvSpPr>
          <p:cNvPr id="93" name=""/>
          <p:cNvSpPr/>
          <p:nvPr/>
        </p:nvSpPr>
        <p:spPr>
          <a:xfrm>
            <a:off x="1908000" y="2636640"/>
            <a:ext cx="67327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imes New Roman"/>
              </a:rPr>
              <a:t>ОНКОЛОГИЧЕСКИЕ АСПЕКТЫ ТАБАКОКУРЕНИЯ</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6E75AE-401C-409F-B35A-C35AC1D7B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Пятидесятилетнее исследование британских врач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ло установлено, что тот, кто бросает курить к 60 годам, проживет в среднем на три года дольше, чем продолжающий курить, те, кт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кращает курить к 50 годам, теряют 4 года, а не 10 лет, как те, кто продолжает курить, к 40 годам – проживут в среднем на 9 лет дольше, чем курильщики, а тот, кто прекратил курить к 30 годам, имеет практически такую же продолжительность жизни, как и некурящие. Результаты данного исследования ставят под сомнение широко распространенную среди убежденных курильщиков точку зрения, что прекращение курения бессмысленно, поскольку они уже нанесли своему организму непоправимый вред. Когда исследование начиналось, почти не существовало долгосрочных бывши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ильщиков, на которых можно было направить исследование эффектов прекращения курения. В настоящее время этих людей множество. Даже если человеку 50 лет, и он курил в течение 30 лет, прекращение курения позволит ему вдвое сократить риск смерти от курения. Прекращение курения в 30 лет снижает такой риск на 9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A0DDE6-69E8-4C97-B04B-C954A616E7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0"/>
            <a:ext cx="9144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сследования Американского общества р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мериканское общество рака провело два знаменательных исследования10, 11, каждое из которых включало примерно один миллион участников-добровольцев. Первое исследование было начато в 1959 году, и итоги подводились вплоть до 1972 года. Второе исследование стартовало в начале 1980 годов 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должается до сих пор, хотя курение участников оценивалось только при приглашении их в исследование. Для оценки изменений риска, связанного с курением, было проведено сравнение влияния курения на смертность в первые годы исследования.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аждом из двух исследований относительные риски оказались выше для мужчин, чем для женщин.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3F0E2D-B540-4333-90D8-D8819A803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сследования Американского общества р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сравнении рисков, подсчитанных в первом и втором исследованиях, обнаруживается их устойчивое повышение для всех причин смерти, и если это лишь умеренное повышение для ИБС, то для рака легких произошел резкий рост риска. Повышение относительных рисков у женщин от первого ко второму исследованию, вероятно, частично отражает изменение стереотипов курения с более ранним началом курения и большей его интенсивностью у участниц второго исследования. Возрастание же относительного риска для мужчин не может быть так же легко объяснено. В связи с этим возникла гипотеза, что увеличение относительного риска произошло в результате изменения характеристик сигарет.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этим согласуются данные исследования британских врачей, в котором обнаружено возрастание риска в период вторых 20 лет по сравнению с первыми 20 годам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FAD4DE-2D57-42C1-968F-1C9E5FFEF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урение и качество жизн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ильщики иногда говорят, что устали от призывов бросать курить, и что многие из них предпочитают умереть, но не стать инвалидом. Трудно судить о том, что делает жизнь стоящей. Многие заболевания, возникающие вследствие курения, такие как болезни сердца, инсульты, рак, ухудшают состояние челове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х последствия таковы, что ухудшающееся качество жизни воспринимается как менее желательное, чем ее сокращени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жегодно из-за болезней и инвалидности американские курящие мужчины 50(84 лет теряют 3,1 миллиона лет здоровой жизни, а курящие женщины того же возраста - 1,6 млн. лет.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чь идет не о смертях. Но это означает, что 4,7 млн. лет здоровья утрачен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BDB8EA-E87E-46AD-A6E3-84BED6FF76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Динамика связанных с курением заболеваемости и смертност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ассовое прекращение курения в США, Великобритании и других странах привело к существенному снижению смертности от р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егких и других связанных с курением заболеваний в этих странах. К сожалению, это может быть лишь весьма отдаленно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рспективой для стран бывшего СССР, которые оказались в этом смысле в роли национальных меньшинств. Вначале нам предстоит пережить рост заболеваемости и смертности среди мужчин, затем среди женщин, лишь после этого, если в наших странах будут предприняты адекватные усилия по контролю над табаком, можн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жидать сначала снижения заболеваемости и смертности среди мужчин, затем среди женщин.</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25B00D-0189-45C2-9193-1719515795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76320" y="952560"/>
            <a:ext cx="8458200" cy="0"/>
          </a:xfrm>
          <a:prstGeom prst="line">
            <a:avLst/>
          </a:prstGeom>
          <a:ln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8600" y="6469200"/>
            <a:ext cx="7750080" cy="27504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ea typeface="Arial"/>
              </a:rPr>
              <a:t>1. Peto R, </a:t>
            </a:r>
            <a:r>
              <a:rPr b="0" i="1" lang="en-GB" sz="1200" spc="-1" strike="noStrike">
                <a:solidFill>
                  <a:srgbClr val="ffffff"/>
                </a:solidFill>
                <a:latin typeface="Arial"/>
                <a:ea typeface="Arial"/>
              </a:rPr>
              <a:t>et al.</a:t>
            </a:r>
            <a:r>
              <a:rPr b="0" lang="en-GB" sz="1200" spc="-1" strike="noStrike">
                <a:solidFill>
                  <a:srgbClr val="ffffff"/>
                </a:solidFill>
                <a:latin typeface="Arial"/>
                <a:ea typeface="Arial"/>
              </a:rPr>
              <a:t> </a:t>
            </a:r>
            <a:r>
              <a:rPr b="0" i="1" lang="en-GB" sz="1200" spc="-1" strike="noStrike">
                <a:solidFill>
                  <a:srgbClr val="ffffff"/>
                </a:solidFill>
                <a:latin typeface="Arial"/>
                <a:ea typeface="Arial"/>
              </a:rPr>
              <a:t>Nature Medicine</a:t>
            </a:r>
            <a:r>
              <a:rPr b="0" lang="en-GB" sz="1200" spc="-1" strike="noStrike">
                <a:solidFill>
                  <a:srgbClr val="ffffff"/>
                </a:solidFill>
                <a:latin typeface="Arial"/>
                <a:ea typeface="Arial"/>
              </a:rPr>
              <a:t> 1999; </a:t>
            </a:r>
            <a:r>
              <a:rPr b="1" lang="en-GB" sz="1200" spc="-1" strike="noStrike">
                <a:solidFill>
                  <a:srgbClr val="ffffff"/>
                </a:solidFill>
                <a:latin typeface="Arial"/>
                <a:ea typeface="Arial"/>
              </a:rPr>
              <a:t>5</a:t>
            </a:r>
            <a:r>
              <a:rPr b="0" lang="en-GB" sz="1200" spc="-1" strike="noStrike">
                <a:solidFill>
                  <a:srgbClr val="ffffff"/>
                </a:solidFill>
                <a:latin typeface="Arial"/>
                <a:ea typeface="Arial"/>
              </a:rPr>
              <a:t>:15–17.</a:t>
            </a:r>
            <a:r>
              <a:rPr b="0" lang="en-GB" sz="1200" spc="-1" strike="noStrike">
                <a:solidFill>
                  <a:srgbClr val="0066cc"/>
                </a:solidFill>
                <a:latin typeface="Arial"/>
                <a:ea typeface="Arial"/>
              </a:rPr>
              <a:t>	</a:t>
            </a:r>
            <a:endParaRPr b="0" lang="en-US" sz="1200" spc="-1" strike="noStrike">
              <a:solidFill>
                <a:srgbClr val="ffffff"/>
              </a:solidFill>
              <a:latin typeface="Times New Roman"/>
            </a:endParaRPr>
          </a:p>
        </p:txBody>
      </p:sp>
      <p:graphicFrame>
        <p:nvGraphicFramePr>
          <p:cNvPr id="122" name=""/>
          <p:cNvGraphicFramePr/>
          <p:nvPr/>
        </p:nvGraphicFramePr>
        <p:xfrm>
          <a:off x="1600200" y="1181160"/>
          <a:ext cx="6934320" cy="4724280"/>
        </p:xfrm>
        <a:graphic>
          <a:graphicData uri="http://schemas.openxmlformats.org/presentationml/2006/ole">
            <p:oleObj r:id="rId2" spid="">
              <p:embed/>
              <p:pic>
                <p:nvPicPr>
                  <p:cNvPr id="123" name="" descr=""/>
                  <p:cNvPicPr/>
                  <p:nvPr/>
                </p:nvPicPr>
                <p:blipFill>
                  <a:blip r:embed="rId3"/>
                  <a:stretch/>
                </p:blipFill>
                <p:spPr>
                  <a:xfrm>
                    <a:off x="1600200" y="1181160"/>
                    <a:ext cx="6934320" cy="4724280"/>
                  </a:xfrm>
                  <a:prstGeom prst="rect">
                    <a:avLst/>
                  </a:prstGeom>
                  <a:ln w="0">
                    <a:noFill/>
                  </a:ln>
                </p:spPr>
              </p:pic>
            </p:oleObj>
          </a:graphicData>
        </a:graphic>
      </p:graphicFrame>
      <p:sp>
        <p:nvSpPr>
          <p:cNvPr id="124" name=""/>
          <p:cNvSpPr/>
          <p:nvPr/>
        </p:nvSpPr>
        <p:spPr>
          <a:xfrm>
            <a:off x="4755600" y="5753160"/>
            <a:ext cx="800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ffffff"/>
                </a:solidFill>
                <a:latin typeface="Times New Roman"/>
                <a:ea typeface="Arial"/>
              </a:rPr>
              <a:t>Годы</a:t>
            </a:r>
            <a:endParaRPr b="0" lang="en-US" sz="2000" spc="-1" strike="noStrike">
              <a:solidFill>
                <a:srgbClr val="ffffff"/>
              </a:solidFill>
              <a:latin typeface="Times New Roman"/>
            </a:endParaRPr>
          </a:p>
        </p:txBody>
      </p:sp>
      <p:sp>
        <p:nvSpPr>
          <p:cNvPr id="125" name=""/>
          <p:cNvSpPr/>
          <p:nvPr/>
        </p:nvSpPr>
        <p:spPr>
          <a:xfrm rot="16200000">
            <a:off x="293040" y="1188000"/>
            <a:ext cx="1404360" cy="1838160"/>
          </a:xfrm>
          <a:prstGeom prst="rect">
            <a:avLst/>
          </a:prstGeom>
          <a:noFill/>
          <a:ln w="0">
            <a:noFill/>
          </a:ln>
        </p:spPr>
        <p:style>
          <a:lnRef idx="0"/>
          <a:fillRef idx="0"/>
          <a:effectRef idx="0"/>
          <a:fontRef idx="minor"/>
        </p:style>
        <p:txBody>
          <a:bodyPr lIns="92160" rIns="92160" tIns="46080" bIns="46080" anchor="t" vert="eaVe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ffffff"/>
                </a:solidFill>
                <a:latin typeface="Times New Roman"/>
                <a:ea typeface="Arial"/>
              </a:rPr>
              <a:t>Глобальное  кол-во смертей от курения</a:t>
            </a:r>
            <a:r>
              <a:rPr b="1" lang="en-GB" sz="2000" spc="-1" strike="noStrike">
                <a:solidFill>
                  <a:srgbClr val="ffffff"/>
                </a:solidFill>
                <a:latin typeface="Times New Roman"/>
                <a:ea typeface="Arial"/>
              </a:rPr>
              <a:t> (</a:t>
            </a:r>
            <a:r>
              <a:rPr b="1" lang="ru-RU" sz="2000" spc="-1" strike="noStrike">
                <a:solidFill>
                  <a:srgbClr val="ffffff"/>
                </a:solidFill>
                <a:latin typeface="Times New Roman"/>
                <a:ea typeface="Arial"/>
              </a:rPr>
              <a:t>млн.</a:t>
            </a:r>
            <a:r>
              <a:rPr b="1" lang="en-GB" sz="2000" spc="-1" strike="noStrike">
                <a:solidFill>
                  <a:srgbClr val="ffffff"/>
                </a:solidFill>
                <a:latin typeface="Times New Roman"/>
                <a:ea typeface="Arial"/>
              </a:rPr>
              <a:t>)</a:t>
            </a:r>
            <a:endParaRPr b="0" lang="en-US" sz="2000" spc="-1" strike="noStrike">
              <a:solidFill>
                <a:srgbClr val="ffffff"/>
              </a:solidFill>
              <a:latin typeface="Times New Roman"/>
            </a:endParaRPr>
          </a:p>
        </p:txBody>
      </p:sp>
      <p:sp>
        <p:nvSpPr>
          <p:cNvPr id="126" name=""/>
          <p:cNvSpPr/>
          <p:nvPr/>
        </p:nvSpPr>
        <p:spPr>
          <a:xfrm>
            <a:off x="380880" y="114480"/>
            <a:ext cx="858384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Arial"/>
              </a:rPr>
              <a:t>Ожидаемая смертность в мировом масштабе</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A6EB1A-F858-4EB6-87FF-AC7972161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Является ли табачная эпидемия эпидеми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требление табака вызывает беспрецедентное количество смертей в мире. По оценкам ВОЗ, в настоящее время во всем мире 5 миллионов человек ежегодно умирает от вызванных табаком болезней, а если тенденции распространенности потребле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бака останутся неизменными, то к 2030 году это число возрастет до 10 миллионов. Неудивительно, что такой масштаб смерт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ногими называется “табачной эпидемией”, хотя ни одно инфекционное заболевание не оказывает такого громадного смертоносного действия. Слова “табачная эпидемия” част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спринимаются как публицистическое преувеличение, так как есть два важных отличия от классической эпидемии как варианта распространения инфекции: отсутствует живой возбудитель (виру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актерия или другой микроорганизм), и потребление табака формально является добровольным актом, в отличие от зараже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атогенным микробом, на которое согласия зараженного не требуется.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2398A2-8B4C-4760-BF77-9634BE0777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Является ли табачная эпидемия эпидеми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ще одним важным отличием является то, что традиционная эпидемиология выработала общепринятое понимание методов борьбы с эпидемиями инфекций. Их применение привело 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сомненным успехам, тогда как меры борьбы с табачной эпидемией являются предметом ожесточенных споров, и успехи в борьбе с ней весьма скромны.  Поэтому представляется перспективным использование понятийного аппарата традиционной эпидемиологии для анализа табачной эпидемии и методов борьбы с ней. Нам представляется, что в качестве возбудителя табачной эпидемии можно назвать табачные изделия, или, для простоты, их наиболее массовый вид ; сигареты. Есть метафора о жизни героического человека - “жизнь как факел”. Жизнь сигареты также заключается в ее сгорании. Сигареты проникают в организм восприимчивого организма перорально и в процессе сгорания насыщают организм никотином, что из-за возникновения зависимости облегчает проникновение в данный организм других сигарет.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B9494B-102F-4987-BDD6-A82D4B525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Является ли табачная эпидемия эпидеми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этом в процессе сгорания сигареты в организм неизбежно попадают также смолы, угарный газ и другие вредные вещества, которые со временем вызывают в организме опасные для жизни изменения. Эти изменения приводят к тому, что человек либо бросает курить, либо умирает. Но для сигарет это не смертельно, ибо они теперь живут, сгорая, в другом организм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ще один крайний вариант эпидемического процесса, полезный для осмысления аналогий табачной эпидемии. Некоторые чрезвычайн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асные микроорганизмы в естественной среде малоустойчивы и поэтому не вызывают классической эпидемии со всеми ее традиц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нными звеньями. Но если эти микроорганизмы целенаправленно выращивать в специальном инкубаторе и затем массово распро-странять в местах скопления восприимчивых организмов, то эпидемия неминуема. Это то, что называется бактериологическим оружием. Воспроизведением сигарет и их массовым распростра- нением в местах скопления людей занимается табачная индустрия, а в роли инкубатора выступает табачная фабри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1E172D-E4D3-4BB2-B03B-62B093860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3" name=""/>
          <p:cNvGraphicFramePr/>
          <p:nvPr/>
        </p:nvGraphicFramePr>
        <p:xfrm>
          <a:off x="0" y="-76320"/>
          <a:ext cx="9144000" cy="6858000"/>
        </p:xfrm>
        <a:graphic>
          <a:graphicData uri="http://schemas.openxmlformats.org/presentationml/2006/ole">
            <p:oleObj progId="PowerPoint.Show.12" r:id="rId2" spid="">
              <p:embed/>
              <p:pic>
                <p:nvPicPr>
                  <p:cNvPr id="134" name="" descr=""/>
                  <p:cNvPicPr/>
                  <p:nvPr/>
                </p:nvPicPr>
                <p:blipFill>
                  <a:blip r:embed="rId3"/>
                  <a:stretch/>
                </p:blipFill>
                <p:spPr>
                  <a:xfrm>
                    <a:off x="0" y="-76320"/>
                    <a:ext cx="9144000" cy="6858000"/>
                  </a:xfrm>
                  <a:prstGeom prst="rect">
                    <a:avLst/>
                  </a:prstGeom>
                  <a:ln w="0">
                    <a:noFill/>
                  </a:ln>
                </p:spPr>
              </p:pic>
            </p:oleObj>
          </a:graphicData>
        </a:graphic>
      </p:graphicFrame>
      <p:sp>
        <p:nvSpPr>
          <p:cNvPr id="2" name="PlaceHolder 1"/>
          <p:cNvSpPr>
            <a:spLocks noGrp="1"/>
          </p:cNvSpPr>
          <p:nvPr>
            <p:ph type="sldNum" idx="3"/>
          </p:nvPr>
        </p:nvSpPr>
        <p:spPr/>
        <p:txBody>
          <a:bodyPr/>
          <a:p>
            <a:fld id="{2531E5D1-16E9-4675-8F51-3AAD87693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subTitle"/>
          </p:nvPr>
        </p:nvSpPr>
        <p:spPr>
          <a:xfrm>
            <a:off x="2743200" y="5373360"/>
            <a:ext cx="6400800" cy="1081080"/>
          </a:xfrm>
          <a:prstGeom prst="rect">
            <a:avLst/>
          </a:prstGeom>
          <a:noFill/>
          <a:ln w="0">
            <a:noFill/>
          </a:ln>
        </p:spPr>
        <p:txBody>
          <a:bodyPr lIns="92160" rIns="92160" tIns="46080" bIns="4608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ГВКГ им. Академика Н.Н. Бурденко МО РФ</a:t>
            </a: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
          <p:cNvSpPr/>
          <p:nvPr/>
        </p:nvSpPr>
        <p:spPr>
          <a:xfrm>
            <a:off x="611280" y="2707200"/>
            <a:ext cx="705636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ОНКОЛОГИЧЕСКИЕ АСПЕКТЫ ТАБАКОКУРЕНИЯ</a:t>
            </a:r>
            <a:endParaRPr b="0" lang="en-US" sz="3200" spc="-1" strike="noStrike">
              <a:solidFill>
                <a:srgbClr val="ffffff"/>
              </a:solidFill>
              <a:latin typeface="Times New Roman"/>
            </a:endParaRPr>
          </a:p>
        </p:txBody>
      </p:sp>
      <p:sp>
        <p:nvSpPr>
          <p:cNvPr id="3" name="PlaceHolder 2"/>
          <p:cNvSpPr>
            <a:spLocks noGrp="1"/>
          </p:cNvSpPr>
          <p:nvPr>
            <p:ph type="sldNum" idx="6"/>
          </p:nvPr>
        </p:nvSpPr>
        <p:spPr/>
        <p:txBody>
          <a:bodyPr/>
          <a:p>
            <a:fld id="{4AADEDB0-A25E-48B4-88A5-C0771B6DD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0" y="0"/>
          <a:ext cx="9144000" cy="6858000"/>
        </p:xfrm>
        <a:graphic>
          <a:graphicData uri="http://schemas.openxmlformats.org/presentationml/2006/ole">
            <p:oleObj progId="PowerPoint.Show.12" r:id="rId2" spid="">
              <p:embed/>
              <p:pic>
                <p:nvPicPr>
                  <p:cNvPr id="136"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3"/>
          </p:nvPr>
        </p:nvSpPr>
        <p:spPr/>
        <p:txBody>
          <a:bodyPr/>
          <a:p>
            <a:fld id="{A8D705B3-A477-4811-9E4F-FCCA01B9EC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3240" y="0"/>
          <a:ext cx="9137520" cy="6854760"/>
        </p:xfrm>
        <a:graphic>
          <a:graphicData uri="http://schemas.openxmlformats.org/presentationml/2006/ole">
            <p:oleObj progId="PowerPoint.Show.12" r:id="rId2" spid="">
              <p:embed/>
              <p:pic>
                <p:nvPicPr>
                  <p:cNvPr id="138" name="" descr=""/>
                  <p:cNvPicPr/>
                  <p:nvPr/>
                </p:nvPicPr>
                <p:blipFill>
                  <a:blip r:embed="rId3"/>
                  <a:stretch/>
                </p:blipFill>
                <p:spPr>
                  <a:xfrm>
                    <a:off x="3240" y="0"/>
                    <a:ext cx="9137520" cy="6854760"/>
                  </a:xfrm>
                  <a:prstGeom prst="rect">
                    <a:avLst/>
                  </a:prstGeom>
                  <a:ln w="0">
                    <a:noFill/>
                  </a:ln>
                </p:spPr>
              </p:pic>
            </p:oleObj>
          </a:graphicData>
        </a:graphic>
      </p:graphicFrame>
      <p:sp>
        <p:nvSpPr>
          <p:cNvPr id="2" name="PlaceHolder 1"/>
          <p:cNvSpPr>
            <a:spLocks noGrp="1"/>
          </p:cNvSpPr>
          <p:nvPr>
            <p:ph type="sldNum" idx="3"/>
          </p:nvPr>
        </p:nvSpPr>
        <p:spPr/>
        <p:txBody>
          <a:bodyPr/>
          <a:p>
            <a:fld id="{2DFF52DF-1E1A-48C1-9F73-1363CF66B6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урение и патология легки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оме онкологических заболеваний легких, с курением также связаны следующие заболевания (в порядке уменьшения силы связи между причиной и следствие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мфизема;  хроническая обструктивная болезнь легких (ХОБ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спираторный бронхиолит, ассоциированный с интерстициально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лезнью легких; десквамативная интерстициальная пневмо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истиоцитоз Х; криптогенный фиброзирующий альвеолит и  эозинофильная пневмо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оме того, курение влияет на риск возникновения и тяжесть течения значительного числа заболеваний легких от обычной простуды до пневмоторакса, легочного кровотечения, и различны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нтерстициальных заболеваний легких. Если в отношении большинства заболеваний легких курение имеет негативное влияние, то саркоидоз меньше распространен среди курящи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3F2E81-9437-4284-AA8D-AD3AD224DD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урение и злокачественные опухоли</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Рак легких</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Раком легких называют группу злокачественных опухолей, которые возникают в дыхательных путях. На ранних стадиях и иногда даже позже рак легкого может никак не проявляться. Но когда обнаруживаются его признаки, болезнь часто оказывается сильно запущенной. Только менее 10% пациентов остаются в живых через 5 лет после установления им диагноза рака легких,</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льшинство же погибают в течение первых пяти лет.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К признакам рака легких относятся хронический кашель, хрипы, кровохарканье, потеря веса и аппетита, одышка, озноб без причины, повторяющиеся ОРЗ типа бронхита или пневмонии и боли в грудной клетке</a:t>
            </a:r>
            <a:r>
              <a:rPr b="0" lang="ru-RU" sz="3600" spc="-1" strike="noStrike">
                <a:solidFill>
                  <a:srgbClr val="ffffff"/>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88CFEC-5858-41F3-AEF3-3162287B28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иск развития рака легких зависит от дозы и длительности курения: больший стаж и высокое потребление увеличивают вероятность развития болезни. Курящие люди имеют в десять раз большую вероятность умереть от рака легких, чем некурящие, а заядлые курильщики - в 15-25 раз большую, чем некурящие. Тенденции смертности от рака легкого во многих странах обнаруживаю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рреляцию с тенденциями курения. В целом, наблюдается приблизительно 20-30-летняя задержка между повышение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аспространенности курения и повышением уровней рака легких. Поколения с высокими уровнями курения продолжают иметь высокие уровни рака легкого, когда начинают стареть. Только недавно в США, Великобритании и некоторых других странах начало происходить снижение смертности от рака легких, особенн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реди мужчин. Хотя другие причины рака легких также были определены, воздействие фактора курения на уровни рака легких для населения в целом значительно превосходит действие всех остальных причин.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9C993C-4C67-4CFF-BDE8-C96164F55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заимосвязь между количеством выкуренных сигарет и относительным риском рака легких обеспечивает доказательство в поддержку причинной обусловленности. Показатели смертности увеличиваются пропорционально продолжительности курения: удвоение продолжительности курения с 10 до 20 лет увеличивает вероятность развития рака легких в 16 раз, если ежедневное количество выкуренных сигарет является равным. Исследование, проводившееся более 10 лет среди 75 тысяч семей в российских городах Барнауле, Владивостоке, Томске и Тюмени, показало статистически достоверное повышение риска развития рака легкого среди курящих мужчин с относительным риском (ОР), равным 4,66. Показатель ОР повышался с увеличением количества  ыкуриваемых в день сигарет. Так, например, у мужчин в возрасте 35-69 лет, куривших от 1 до 19 сигарет в день, ОР рака легкого был равен 2,52, у куривших 20 сигарет в день - 4,97, а у мужчин, которые курили более 20 сигарет в день, ОР был равен 10,22.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494138-465C-4D5A-B256-F4953B9548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0" y="98100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налогичная связь между количеством выкуриваемых в день сигарет и риском развития рака легкого наблюдалась и у мужчин в возрасте 70 лет и старше. Риск развития рака легкого был статистически достоверно выше у мужчин, которые бросили курить 5-19 лет назад, а вот у тех, кто бросил курить более 20 лет назад, он был почти таким же, как и среди никогда не куривших. Лица, начавшие курить в молодом возрасте, имеют повышенный риск развития рака легкого. Недавние американские исследования обнаружили, что курение в подростковом возрасте вызывает необратимые генетические изменения в легких и навсегда увеличивает риск развития рака легкого, даже если человек впоследствии бросает курить.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C29EB0-8388-448A-9F05-35CBE6177D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зультаты изучения бывших курильщиков, больных раком легкого, показали, что те, кто начал курить в возрасте моложе 15 лет, имели вдвое больше мутаций клетки, чем те, кто начинали курить после 20 лет. Недавние исследования заставляют предполагать, что относительный риск развития рака легких среди курящих женщин, если учитывается интенсивность курения, выше, чем среди курящих мужчин. Это в особенности касается некоторых гистологических форм рака. Эпидемиологические данные нашли подтверждение со стороны биохимических и генетических исследований. Повышенный риск воздействия курения на женщин может объясняться, в частности, ролью эстрогенов, которые оказывают и прямое, и косвенное воздействие на легкие, и участвуют в канцерогенезе в легких. Предполагается, что в этом процессе участвуют эстрогенные рецепторы. Биохимические исследования указывают, что как альфа, так и бета эстрогенных рецепторов больше содержится в легочной ткани женщин, чем мужчин, а в опухолевой легочной ткани у женщин их достоверно больше, чем в здоровой ткани.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B05D1A-83FA-4083-8D5C-8FEAE1F908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0" y="112536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 мужчин же таких различий не наблюдается.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роятно, эстрогенные рецепторы, получая химические сигналы от эстрогенов, которых в женском организме содержится больше, чем в мужском, влияют на внутреннюю биохимию клетки. В результате повышается вероятность таких процессов, как образование ДНК с измененной структурой, нарушение восстановления структуры ДНК, повышение частоты генных мутаций. Вопрос о том, является ли большая уязвимость курящих женщин для рака легких по сравнению с мужчинами присущей всем возможным популяциям, пока остается открытым, поскольку некоторые эпидемиологически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я не подтвердили закономерность, установленную в СШ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BE9347-39E6-4CF4-B162-B333DEE8B8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365040" y="117360"/>
            <a:ext cx="8778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0" y="549360"/>
            <a:ext cx="9144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Связь курения с возникновением злокачественных образований в других органа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ществует ряд видов злокачественных новообразований тех или иных органов, связь которых с курением довольно определенн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становлена. Это, кроме рака легкого,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рак гортан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ряда органов головы и шеи</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мочевого пузыр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пищевод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поджелудочной желез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желуд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почек.</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C0AD96-B477-4A1B-9779-DDC1A934CD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333000"/>
            <a:ext cx="8134200" cy="57625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800" spc="-1" strike="noStrike">
                <a:solidFill>
                  <a:srgbClr val="ffffff"/>
                </a:solidFill>
                <a:latin typeface="Times New Roman"/>
              </a:rPr>
              <a:t>Краткий исторический очерк.</a:t>
            </a:r>
            <a:endParaRPr b="1"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Табачный куст родом с Американского континента. Он относится к тому же семейству, что и картофель, и перец. Считается, что табак выращивался ещё в VI веке до нашей эры. Историки полагают, что уже в 1 веке до нашей эры индейцы майя в Центральной Америке курили табак на религиозных церемониях.</a:t>
            </a:r>
            <a:endParaRPr b="1" lang="en-US" sz="2400" spc="-1" strike="noStrike">
              <a:solidFill>
                <a:srgbClr val="ffffff"/>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рвое вещественное доказательство курения табака : это картинки на глиняной посуде из Гватемалы, датируемые 7:11 веками. Столетия спустя курение табака распространилось на другие части Северной и Южной Америки. В древних цивилизациях табачному дыму приписывались магические, целебные свойства, а вдыхание его приравнивалось к общению с богами. Табачные листы накладывались на раны как болеутоляющее средство.</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374EF4C1-31F2-43EB-90DA-757E3E3296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26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0" y="907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0" y="765000"/>
            <a:ext cx="91440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Курение повышает риск метастазировани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аже для тех видов рака, которые считаются этиологически не связанными с курением, было показано, что настоящее или прошлое курение влияет на степень распространенности рака в момент установления диагноза, например, рак легких у</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ильщиков с большей вероятностью имел метастазы в такие органы, как головной мозг, костный мозг, надпочечники и перикард. Для других видов рака у курильщиков была показана большая степень локального или регионального злокачественного роста.</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A094AD-73E7-4722-97B7-B1DADC333A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26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0" y="907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0" y="765000"/>
            <a:ext cx="9144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урение и общая смертность от р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мерти, обусловленные потреблением табака, составляют существенную часть всех смертей от рака, хотя их доля в разных странах, зависит, во-первых, от истории потребления табака в данной стране, во-вторых, от общей продолжительности жизни, так как рак в значительно большей степени поражает пожилых людей. Согласно оценкам, в США в 1995 году 168 тысяч или одна треть (38% среди мужчин и 23% среди женщин) смертей от рака было обусловлено активным курением сигарет, и еще от 3 до 6 тысяч смертей от рака легкого у некурящих было вызвано пассивным</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ением. Во всемирном масштабе курение обусловливает 15% смертей от рака, причем ожидается, что эта доля будет расти в связи с ростом распространенности курения в развивающихся страна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C169F5-2FBE-45CA-82E5-2BA01DA425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cbcbcb"/>
              </a:solidFill>
              <a:latin typeface="Times New Roman"/>
            </a:endParaRPr>
          </a:p>
        </p:txBody>
      </p:sp>
      <p:sp>
        <p:nvSpPr>
          <p:cNvPr id="168" name="PlaceHolder 2"/>
          <p:cNvSpPr>
            <a:spLocks noGrp="1"/>
          </p:cNvSpPr>
          <p:nvPr>
            <p:ph/>
          </p:nvPr>
        </p:nvSpPr>
        <p:spPr>
          <a:xfrm>
            <a:off x="685800" y="1052280"/>
            <a:ext cx="8207280" cy="5545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	</a:t>
            </a:r>
            <a:endParaRPr b="1" lang="en-US" sz="4800" spc="-1" strike="noStrike">
              <a:solidFill>
                <a:srgbClr val="ffffff"/>
              </a:solidFill>
              <a:latin typeface="Arial"/>
            </a:endParaRPr>
          </a:p>
        </p:txBody>
      </p:sp>
      <p:sp>
        <p:nvSpPr>
          <p:cNvPr id="169" name=""/>
          <p:cNvSpPr/>
          <p:nvPr/>
        </p:nvSpPr>
        <p:spPr>
          <a:xfrm>
            <a:off x="0" y="189000"/>
            <a:ext cx="914400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сследования в армии США.</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Short term effects of cigarette smoking on hospitalisation and associated lost workdays in a young healthy population.</a:t>
            </a:r>
            <a:br>
              <a:rPr sz="36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nthony S Robbinsa, Vincent P Fonsecaa, Susan Y Chaoa, Gary A Coila, Nicole S Bellb, Paul J Amorosoc.</a:t>
            </a:r>
            <a:r>
              <a:rPr b="0" lang="ru-RU" sz="3600" spc="-1" strike="noStrike">
                <a:solidFill>
                  <a:srgbClr val="000000"/>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Office for Prevention and Health Services Assessment, Air Force Medical Operations Agency, Brooks Air Force Base, Texas, US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SDSS, Inc, Natick, Massachusetts, and Department of Social and Behavioral Sciences, Boston University School of Public Health, Boston, Massachusetts, US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US Army Research Institute of Environmental Medicine, Natick, Massachusetts, USA</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B979A31-AA26-4103-8D60-08387C76DB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cbcbcb"/>
              </a:solidFill>
              <a:latin typeface="Times New Roman"/>
            </a:endParaRPr>
          </a:p>
        </p:txBody>
      </p:sp>
      <p:sp>
        <p:nvSpPr>
          <p:cNvPr id="171" name="PlaceHolder 2"/>
          <p:cNvSpPr>
            <a:spLocks noGrp="1"/>
          </p:cNvSpPr>
          <p:nvPr>
            <p:ph/>
          </p:nvPr>
        </p:nvSpPr>
        <p:spPr>
          <a:xfrm>
            <a:off x="685800" y="1052280"/>
            <a:ext cx="8207280" cy="5545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	</a:t>
            </a:r>
            <a:endParaRPr b="1" lang="en-US" sz="4800" spc="-1" strike="noStrike">
              <a:solidFill>
                <a:srgbClr val="ffffff"/>
              </a:solidFill>
              <a:latin typeface="Arial"/>
            </a:endParaRPr>
          </a:p>
        </p:txBody>
      </p:sp>
      <p:sp>
        <p:nvSpPr>
          <p:cNvPr id="172" name=""/>
          <p:cNvSpPr/>
          <p:nvPr/>
        </p:nvSpPr>
        <p:spPr>
          <a:xfrm>
            <a:off x="0" y="18900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OBJECTIVE</a:t>
            </a:r>
            <a:r>
              <a:rPr b="0" lang="ru-RU" sz="2400" spc="-1" strike="noStrike">
                <a:solidFill>
                  <a:srgbClr val="000000"/>
                </a:solidFill>
                <a:latin typeface="Times New Roman"/>
              </a:rPr>
              <a:t> There are relatively few published studies conducted among people of younger ages examining short term outcomes of cigarette smoking, and only a small number with outcomes important to employers. The present study was designed to assess the short term effects of smoking on hospitalisation and lost workdays.</a:t>
            </a:r>
            <a:br>
              <a:rPr sz="2400"/>
            </a:br>
            <a:r>
              <a:rPr b="1" lang="ru-RU" sz="2400" spc="-1" strike="noStrike">
                <a:solidFill>
                  <a:srgbClr val="000000"/>
                </a:solidFill>
                <a:latin typeface="Times New Roman"/>
              </a:rPr>
              <a:t>SUBJECTS</a:t>
            </a:r>
            <a:r>
              <a:rPr b="0" lang="ru-RU" sz="2400" spc="-1" strike="noStrike">
                <a:solidFill>
                  <a:srgbClr val="000000"/>
                </a:solidFill>
                <a:latin typeface="Times New Roman"/>
              </a:rPr>
              <a:t> 87 991 men and women serving on active duty in the US Army during 1987 to 1998 who took a health risk appraisal two or more times and were followed for an average of 2.4 years.</a:t>
            </a:r>
            <a:br>
              <a:rPr sz="2400"/>
            </a:br>
            <a:r>
              <a:rPr b="1" lang="ru-RU" sz="2400" spc="-1" strike="noStrike">
                <a:solidFill>
                  <a:srgbClr val="000000"/>
                </a:solidFill>
                <a:latin typeface="Times New Roman"/>
              </a:rPr>
              <a:t>MAIN OUTCOME MEASURES</a:t>
            </a:r>
            <a:r>
              <a:rPr b="0" lang="ru-RU" sz="2400" spc="-1" strike="noStrike">
                <a:solidFill>
                  <a:srgbClr val="000000"/>
                </a:solidFill>
                <a:latin typeface="Times New Roman"/>
              </a:rPr>
              <a:t> Rate ratios for hospitalisations and lost workdays, and fraction of hospitalisations and lost workdays attributable to current smoking (population attributable fraction).</a:t>
            </a:r>
            <a:br>
              <a:rPr sz="2400"/>
            </a:br>
            <a:br>
              <a:rPr sz="2400"/>
            </a:br>
            <a:r>
              <a:rPr b="1" lang="ru-RU" sz="2400" spc="-1" strike="noStrike">
                <a:solidFill>
                  <a:srgbClr val="000000"/>
                </a:solidFill>
                <a:latin typeface="Times New Roman"/>
              </a:rPr>
              <a:t>CONCLUSIONS </a:t>
            </a:r>
            <a:r>
              <a:rPr b="0" lang="ru-RU" sz="2400" spc="-1" strike="noStrike">
                <a:solidFill>
                  <a:srgbClr val="000000"/>
                </a:solidFill>
                <a:latin typeface="Times New Roman"/>
              </a:rPr>
              <a:t>In this young healthy population, substantial fractions of hospitalisations and lost workdays were attributable to current smoking, particularly among men.</a:t>
            </a:r>
            <a:br>
              <a:rPr sz="2400"/>
            </a:br>
            <a:r>
              <a:rPr b="0" lang="ru-RU" sz="2400" spc="-1" strike="noStrike">
                <a:solidFill>
                  <a:srgbClr val="000000"/>
                </a:solidFill>
                <a:latin typeface="Times New Roman"/>
              </a:rPr>
              <a:t>(</a:t>
            </a:r>
            <a:r>
              <a:rPr b="0" i="1" lang="ru-RU" sz="2400" spc="-1" strike="noStrike">
                <a:solidFill>
                  <a:srgbClr val="000000"/>
                </a:solidFill>
                <a:latin typeface="Times New Roman"/>
              </a:rPr>
              <a:t>Tobacco Control</a:t>
            </a:r>
            <a:r>
              <a:rPr b="0" lang="ru-RU" sz="2400" spc="-1" strike="noStrike">
                <a:solidFill>
                  <a:srgbClr val="000000"/>
                </a:solidFill>
                <a:latin typeface="Times New Roman"/>
              </a:rPr>
              <a:t> 2000;</a:t>
            </a:r>
            <a:r>
              <a:rPr b="1" lang="ru-RU" sz="2400" spc="-1" strike="noStrike">
                <a:solidFill>
                  <a:srgbClr val="000000"/>
                </a:solidFill>
                <a:latin typeface="Times New Roman"/>
              </a:rPr>
              <a:t>9:</a:t>
            </a:r>
            <a:r>
              <a:rPr b="0" lang="ru-RU" sz="2400" spc="-1" strike="noStrike">
                <a:solidFill>
                  <a:srgbClr val="000000"/>
                </a:solidFill>
                <a:latin typeface="Times New Roman"/>
              </a:rPr>
              <a:t>389-396)</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09668CE-F181-4592-BCF9-93E3A7FC7B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0" y="26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0" y="907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0" y="76500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 descr=""/>
          <p:cNvPicPr/>
          <p:nvPr/>
        </p:nvPicPr>
        <p:blipFill>
          <a:blip r:embed="rId2"/>
          <a:stretch/>
        </p:blipFill>
        <p:spPr>
          <a:xfrm>
            <a:off x="0" y="0"/>
            <a:ext cx="9144000" cy="6858000"/>
          </a:xfrm>
          <a:prstGeom prst="rect">
            <a:avLst/>
          </a:prstGeom>
          <a:ln w="0">
            <a:noFill/>
          </a:ln>
        </p:spPr>
      </p:pic>
      <p:sp>
        <p:nvSpPr>
          <p:cNvPr id="178" name=""/>
          <p:cNvSpPr/>
          <p:nvPr/>
        </p:nvSpPr>
        <p:spPr>
          <a:xfrm>
            <a:off x="903960" y="5661000"/>
            <a:ext cx="741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сследование в ГВКГ им. академика Н.Н. Бурденко</a:t>
            </a:r>
            <a:endParaRPr b="0" lang="en-US" sz="2400" spc="-1" strike="noStrike">
              <a:solidFill>
                <a:srgbClr val="ffffff"/>
              </a:solidFill>
              <a:latin typeface="Times New Roman"/>
            </a:endParaRPr>
          </a:p>
        </p:txBody>
      </p:sp>
      <p:sp>
        <p:nvSpPr>
          <p:cNvPr id="179" name=""/>
          <p:cNvSpPr/>
          <p:nvPr/>
        </p:nvSpPr>
        <p:spPr>
          <a:xfrm>
            <a:off x="0" y="692280"/>
            <a:ext cx="7794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Times New Roman"/>
              </a:rPr>
              <a:t>«ТАБАКОКУРЕНИЕ – ПРОБЛЕМА XXI ВЕКА»</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Times New Roman"/>
              </a:rPr>
              <a:t>Научно- исследовательский проект по табакокурению</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9526D089-B8BE-4FB1-BD41-6B352069A6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0" y="2602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0" y="907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0" y="765000"/>
            <a:ext cx="9144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хема исследования</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следование проводилось при помощи опросника, где было 52 признак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коло 900 пациентов было опрошено во всех отделениях госпиталя, учитывались анамнез, текущее состояние пациенто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ло выделено три основных фактора: патофизиологический, доза-эффект и социобиологически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льные были распределены по 4 нозологическим группам – онкология, кардиология, респираторный тракт и ЖК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ыли выработаны и предложены способы оценки поражения органов и дожития курящих пациенто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ложен способ лечения табакокурения с применением грандаксина и мезодиэнцифальной терапией.</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A41920-0000-489C-A249-C6DEF01ED0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ы исследования</a:t>
            </a:r>
            <a:endParaRPr b="0" lang="en-US" sz="4400" spc="-1" strike="noStrike">
              <a:solidFill>
                <a:srgbClr val="cbcbcb"/>
              </a:solidFill>
              <a:latin typeface="Times New Roman"/>
            </a:endParaRPr>
          </a:p>
        </p:txBody>
      </p:sp>
      <p:sp>
        <p:nvSpPr>
          <p:cNvPr id="185" name="PlaceHolder 2"/>
          <p:cNvSpPr>
            <a:spLocks noGrp="1"/>
          </p:cNvSpPr>
          <p:nvPr>
            <p:ph/>
          </p:nvPr>
        </p:nvSpPr>
        <p:spPr>
          <a:xfrm>
            <a:off x="685800" y="1052280"/>
            <a:ext cx="8207280" cy="55450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лучена зависимость токсического действия табачного дыма от интенсивности  и длительности курения, удельной повреждаемости организма.</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казано, что табакокурение является полифункциональной болезнью и определены три клинические стадии курения – случайного (</a:t>
            </a:r>
            <a:r>
              <a:rPr b="1" lang="en-US" sz="2000" spc="-1" strike="noStrike">
                <a:solidFill>
                  <a:srgbClr val="000000"/>
                </a:solidFill>
                <a:latin typeface="Times New Roman"/>
                <a:ea typeface="ＭＳ Ｐゴシック"/>
              </a:rPr>
              <a:t>I)</a:t>
            </a:r>
            <a:r>
              <a:rPr b="1" lang="ru-RU" sz="2000" spc="-1" strike="noStrike">
                <a:solidFill>
                  <a:srgbClr val="000000"/>
                </a:solidFill>
                <a:latin typeface="Times New Roman"/>
              </a:rPr>
              <a:t>, привычного </a:t>
            </a:r>
            <a:r>
              <a:rPr b="1" lang="en-US" sz="2000" spc="-1" strike="noStrike">
                <a:solidFill>
                  <a:srgbClr val="000000"/>
                </a:solidFill>
                <a:latin typeface="Times New Roman"/>
                <a:ea typeface="ＭＳ Ｐゴシック"/>
              </a:rPr>
              <a:t>(II) </a:t>
            </a:r>
            <a:r>
              <a:rPr b="1" lang="ru-RU" sz="2000" spc="-1" strike="noStrike">
                <a:solidFill>
                  <a:srgbClr val="000000"/>
                </a:solidFill>
                <a:latin typeface="Times New Roman"/>
              </a:rPr>
              <a:t>и пристрастного (</a:t>
            </a:r>
            <a:r>
              <a:rPr b="1" lang="en-US" sz="2000" spc="-1" strike="noStrike">
                <a:solidFill>
                  <a:srgbClr val="000000"/>
                </a:solidFill>
                <a:latin typeface="Times New Roman"/>
                <a:ea typeface="ＭＳ Ｐゴシック"/>
              </a:rPr>
              <a:t>III)</a:t>
            </a:r>
            <a:r>
              <a:rPr b="1" lang="ru-RU" sz="2000" spc="-1" strike="noStrike">
                <a:solidFill>
                  <a:srgbClr val="000000"/>
                </a:solidFill>
                <a:latin typeface="Times New Roman"/>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казано, что при </a:t>
            </a:r>
            <a:r>
              <a:rPr b="1" lang="en-US" sz="2000" spc="-1" strike="noStrike">
                <a:solidFill>
                  <a:srgbClr val="000000"/>
                </a:solidFill>
                <a:latin typeface="Times New Roman"/>
                <a:ea typeface="ＭＳ Ｐゴシック"/>
              </a:rPr>
              <a:t>II </a:t>
            </a:r>
            <a:r>
              <a:rPr b="1" lang="ru-RU" sz="2000" spc="-1" strike="noStrike">
                <a:solidFill>
                  <a:srgbClr val="000000"/>
                </a:solidFill>
                <a:latin typeface="Times New Roman"/>
              </a:rPr>
              <a:t>стадии возникающие проявления соматической патологии еще обратимы, а при </a:t>
            </a:r>
            <a:r>
              <a:rPr b="1" lang="en-US" sz="2000" spc="-1" strike="noStrike">
                <a:solidFill>
                  <a:srgbClr val="000000"/>
                </a:solidFill>
                <a:latin typeface="Times New Roman"/>
                <a:ea typeface="ＭＳ Ｐゴシック"/>
              </a:rPr>
              <a:t>III </a:t>
            </a:r>
            <a:r>
              <a:rPr b="1" lang="ru-RU" sz="2000" spc="-1" strike="noStrike">
                <a:solidFill>
                  <a:srgbClr val="000000"/>
                </a:solidFill>
                <a:latin typeface="Times New Roman"/>
              </a:rPr>
              <a:t>стадии эти проявления практически необратимы и в 60-70% случаев служат факторами риска развития злокачественных новообразований.</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Для медицинской службы МО РФ предлагается методика расчета перспективного ущерба и затрат на каждого курящего военнослужащего..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казано, что активное курение и отсутствие борьбы с ним приводит к преждевременному увольнению военнослужащих из рядов Вооруженных Сил РФ.</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260896A9-9E68-4CFC-9217-5A404333AE04}"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324000" y="0"/>
            <a:ext cx="8820000" cy="618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раткий исторический очерк.</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ение стало массовым только с появлением сигарет. Честь изобретения сигарет принадлежит нищим из испанского город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евилья, которые собирали окурки сигар, заворачивали их в бумагу и курили. Массово же сигареты в Европе стали  появляться со времен Крымской войны (1853:1856 год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гда английские и французские солдаты стали делать самокрутки по примеру своих турецких союзников.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же в 1854 году английский торговец Филип Моррис стал выпускать самокрутки на продажу.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требление табака получило огромный толчок в 1881 году, когда американцем Джеймсом Бонзаком</a:t>
            </a:r>
            <a:r>
              <a:rPr b="0" lang="ru-RU" sz="3600" spc="-1" strike="noStrike">
                <a:solidFill>
                  <a:srgbClr val="ffffff"/>
                </a:solidFill>
                <a:latin typeface="Times New Roman"/>
              </a:rPr>
              <a:t> </a:t>
            </a:r>
            <a:r>
              <a:rPr b="0" lang="ru-RU" sz="2400" spc="-1" strike="noStrike">
                <a:solidFill>
                  <a:srgbClr val="ffffff"/>
                </a:solidFill>
                <a:latin typeface="Times New Roman"/>
              </a:rPr>
              <a:t>была запатентована крутящая сигареты машина. Машина, которая, после улучшений, стала действовать в 1884 году, заменила непроизводительный ручной метод, резко понизив производственные затраты.</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66C53F-7708-4096-B137-315C2D6321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250920" y="0"/>
            <a:ext cx="8893080" cy="710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Краткий исторический очерк.</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туация в корне изменилась во время Первой Мировой войны. Сигареты стали называть “солдатским куревом” и включили в</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лдатский паек различных армий. Посылка сигарет на фронт считалась патриотическим долгом, и это подорвало антитабачное</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вижение во всех страна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аже некурящий В.И. Ленин в одной из своих записок в эпоху</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гражданской войны писал, что солдат Красной Армии надо снабжать табаком, и это несмотря на голод и разруху. В результате такой «заботы» вернувшиеся с войны солдат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должали ежедневно курит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о время Второй Мировой войны сигареты наравне с едой стали входить в солдатский паек. Сигаретные компании посылали н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фронт миллионы сигарет бесплатно. Когда солдаты возвратились домой, компании получили сотни тысяч верных потребителей</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гаре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399E0D-97F9-420B-B418-5A5F2F5A2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250920" y="0"/>
            <a:ext cx="889308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раткий исторический очер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ение женщин в Европе считалось неприемлемым до 1920-х годов, когда движение женщин за равные права (“суфражистки”) стало фактически пропагандировать курение среди женщин.</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разу же табачные компании стали выпускать особые марки сигарет для женщин и продавать их как символ освобождения. В 1923 году “Philip Morris” начинает продвижение марки “Marlboro” как женских сигарет под девизом “Нежные, как май” (“Mild as May”).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Женщины, которые во время войны работали наравне с мужчинами, начали активно перенимать мужскую привычку 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урению</a:t>
            </a:r>
            <a:r>
              <a:rPr b="0" lang="ru-RU" sz="3600" spc="-1" strike="noStrike">
                <a:solidFill>
                  <a:srgbClr val="ffffff"/>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1691347-24F7-4CE5-85FB-F95DE8A6D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69228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копление научных данных о вреде курения для здоровь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 временем стали множиться научные доказательства вреда курения для здоровья. Доказательства, связывающие с потреблением табака развитие хронических неинфекционны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лезней, начали накапливаться в 1930-х годах, и их количество резко возросло в конце 1940-х и начале</a:t>
            </a:r>
            <a:r>
              <a:rPr b="0" lang="ru-RU" sz="3600" spc="-1" strike="noStrike">
                <a:solidFill>
                  <a:srgbClr val="ffffff"/>
                </a:solidFill>
                <a:latin typeface="Times New Roman"/>
              </a:rPr>
              <a:t> </a:t>
            </a:r>
            <a:r>
              <a:rPr b="0" lang="ru-RU" sz="2400" spc="-1" strike="noStrike">
                <a:solidFill>
                  <a:srgbClr val="ffffff"/>
                </a:solidFill>
                <a:latin typeface="Times New Roman"/>
              </a:rPr>
              <a:t>1950-х годов. В 1930 году исследователи из Кельна (Германия) установили статистическу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заимосвязь между курением и раком легких. В 1938 году в журнале “Science” (Наука) вышла статья Раймонда Перла из Университета Джона Хопкинса. В ней он, проследив истори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жизни 6813 мужчин, пришел к выводу, что лишь 45% курильщиков доживают до 60 лет по сравнению с 65% некурящих.</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01FFCF-FBB6-4713-8ED5-6318A5CDA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476280"/>
            <a:ext cx="9144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требление табака в историческом аспекте является</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есчастным случаем в судьбе человечества</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длинная степень опасности табака для здоровья стала осознаваться только тогда, когда его потребление укоренилось в обществе. Ситуация дополнительно осложняется тем, что</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гареты выпускают могущественные компании, готовые пойти на все ради своих коммерческих интересов.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то свидетельствует, что сложившаяся ситуация вокруг потребления табака и создаваемой им угрозы для здоровья требует таких мер, которые не имеют параллелей в истории общественного здравоохранения.</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BD42CC-ACD4-4309-8B77-008932561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афаев </cp:lastModifiedBy>
  <dcterms:modified xsi:type="dcterms:W3CDTF">2004-12-17T06:01:11Z</dcterms:modified>
  <cp:revision>83</cp:revision>
  <dc:subject/>
  <dc:title>Презентация PowerPoint</dc:title>
</cp:coreProperties>
</file>